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87E-54A8-4268-99E0-EF26A722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93F-250A-48D8-A467-287FC470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2A3-E7B0-407A-8BE1-612B68FB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496-80DF-4EE2-BCB1-1AC06D47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583-A947-4BE9-BC55-EE6BB679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FBF-CA0D-4421-A0CF-AEEEB969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E72-2A9B-4CD3-875F-196A7DDB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219-1ACD-43C2-93BD-5B4C5DB4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720-3DDD-435C-8CC6-5FBFA11A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73D-4FD6-4CF4-AC20-16AF3E80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8FA-8C63-45C6-84E6-F16F7DC1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07D-FFD6-4AD9-911C-99DCE1C9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3A3F-11EA-4903-85B7-2BE452572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alk in the Dese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ected –ed and –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ping and Doubling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Pj04012780000[1]"/>
          <p:cNvPicPr/>
          <p:nvPr/>
        </p:nvPicPr>
        <p:blipFill>
          <a:blip r:embed="rId1"/>
          <a:stretch/>
        </p:blipFill>
        <p:spPr>
          <a:xfrm>
            <a:off x="380880" y="304920"/>
            <a:ext cx="2332080" cy="186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Pj04094810000[1]"/>
          <p:cNvPicPr/>
          <p:nvPr/>
        </p:nvPicPr>
        <p:blipFill>
          <a:blip r:embed="rId2"/>
          <a:stretch/>
        </p:blipFill>
        <p:spPr>
          <a:xfrm>
            <a:off x="6095880" y="457200"/>
            <a:ext cx="2667240" cy="171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What do you know about reading these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rain</a:t>
            </a:r>
            <a:r>
              <a:rPr b="0" lang="en-US" sz="6600" spc="-1" strike="noStrike">
                <a:solidFill>
                  <a:srgbClr val="33cc33"/>
                </a:solidFill>
                <a:latin typeface="Arial"/>
              </a:rPr>
              <a:t>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rain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both of these have a base word and an 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ans it happened in the p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ans it is happening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876920" y="1600200"/>
            <a:ext cx="914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724280" y="266688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3520" y="4648320"/>
            <a:ext cx="7617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533520" y="525780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The Doubling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p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base wo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= shop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shop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consonant i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as doubled before the endings were added.  This happens in short-vowel words such as shop that end in just one con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one-syllable word ends with one vowel and one consonant, double the final con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362320" y="2286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362320" y="29718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334120" y="2286000"/>
            <a:ext cx="685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34120" y="29718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Dropping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k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base wor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= lik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lik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 was dropped before these endings were added.  This happens if a base word ends with e, and the ending starts with a vow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base word ends with a sneaky e, drop the e and add –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981080" y="2438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981080" y="3124080"/>
            <a:ext cx="762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962520" y="2362320"/>
            <a:ext cx="685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962520" y="3124080"/>
            <a:ext cx="761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What would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you just add –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–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you double the final conson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rrect answer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 the final consona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22860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629400" y="2286000"/>
            <a:ext cx="609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68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68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6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6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What would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just add –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double the final conson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drop the sneaky 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he sneaky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34340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867280" y="205740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Add –s, -ed, and –ing</a:t>
            </a:r>
            <a:br>
              <a:rPr sz="4000"/>
            </a:b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Tell why or if the spelling 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wo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33520" y="2209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495680" y="16765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6400800" y="16765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68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68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6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6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Add –s, -ed, and –ing</a:t>
            </a:r>
            <a:br>
              <a:rPr sz="4000"/>
            </a:b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Tell why or if the spelling 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se 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-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grab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grab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grab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ou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c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excite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excit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exci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ro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face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fac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fa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r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a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talk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talk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tal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st a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533520" y="20574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4495680" y="16765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6400800" y="16765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3520" y="2971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533520" y="39625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457200" y="48769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533520" y="6248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1:38:09Z</dcterms:created>
  <dc:creator> </dc:creator>
  <dc:description/>
  <dc:language>en-US</dc:language>
  <cp:lastModifiedBy>Laura McDow</cp:lastModifiedBy>
  <dcterms:modified xsi:type="dcterms:W3CDTF">2010-09-02T15:33:37Z</dcterms:modified>
  <cp:revision>3</cp:revision>
  <dc:subject/>
  <dc:title>A Walk in the Desert Spelling Words</dc:title>
</cp:coreProperties>
</file>